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bomb.wav" ContentType="audio/x-wav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8931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C9DB-B32A-4DCF-82A8-81DA1DBB2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52880"/>
            <a:ext cx="77724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325-3C89-4459-91F2-202AB998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37926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819160"/>
            <a:ext cx="37926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52880"/>
            <a:ext cx="37926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52880"/>
            <a:ext cx="37926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1F46-27F5-4385-B99B-83583884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250236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819160"/>
            <a:ext cx="250236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819160"/>
            <a:ext cx="250236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52880"/>
            <a:ext cx="250236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52880"/>
            <a:ext cx="250236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52880"/>
            <a:ext cx="250236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200E-9E7B-4964-A715-81A5F838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299-640F-40C2-8570-8D10DCCD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34A2-9E0D-4F0B-B750-D0D0A720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3792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819160"/>
            <a:ext cx="3792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452-BC42-4D53-8C00-4ACD0884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67CD-F7C8-4659-B9F6-E332877D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AE1B-9545-436D-BD39-898C5B09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37926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819160"/>
            <a:ext cx="3792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52880"/>
            <a:ext cx="37926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2F15-D2B0-4E83-A3CA-23CDD395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3792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819160"/>
            <a:ext cx="37926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52880"/>
            <a:ext cx="37926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253A-52A4-4D29-A2E9-68FD95D1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37926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819160"/>
            <a:ext cx="37926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52880"/>
            <a:ext cx="7772400" cy="11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537-8D58-4EBE-AE51-ECFE9DD2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spcBef>
                <a:spcPts val="1199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Click to edit the outline text format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  <a:p>
            <a:pPr lvl="1" marL="274680" indent="-10548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Second Outline Level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  <a:p>
            <a:pPr lvl="2" marL="422640" indent="-84240">
              <a:spcBef>
                <a:spcPts val="11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Third Outline Level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  <a:p>
            <a:pPr lvl="3" marL="591840" indent="-84240">
              <a:spcBef>
                <a:spcPts val="11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Fourth Outline Level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  <a:p>
            <a:pPr lvl="4" marL="761040" indent="-84240">
              <a:spcBef>
                <a:spcPts val="11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Fifth Outline Level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  <a:p>
            <a:pPr lvl="5" marL="761040" indent="-84240">
              <a:spcBef>
                <a:spcPts val="11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Sixth Outline Level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  <a:p>
            <a:pPr lvl="6" marL="761040" indent="-84240">
              <a:spcBef>
                <a:spcPts val="11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Seventh Outline Level</a:t>
            </a:r>
            <a:endParaRPr b="1" lang="en-US" sz="4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64DF-6C8C-42EE-98B5-F10CE3C42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Documents%2520and%2520Settings/Janet%2520Caughlin/My%2520Documents/PowerPoint%2520book/Planet%2520Game%2520xp.ppt" TargetMode="Externa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7.xml"/><Relationship Id="rId13" Type="http://schemas.openxmlformats.org/officeDocument/2006/relationships/slide" Target="slide8.xml"/><Relationship Id="rId14" Type="http://schemas.openxmlformats.org/officeDocument/2006/relationships/slide" Target="slide9.xml"/><Relationship Id="rId15" Type="http://schemas.openxmlformats.org/officeDocument/2006/relationships/slide" Target="slide10.xml"/><Relationship Id="rId16" Type="http://schemas.openxmlformats.org/officeDocument/2006/relationships/slide" Target="slide11.xml"/><Relationship Id="rId17" Type="http://schemas.openxmlformats.org/officeDocument/2006/relationships/slide" Target="slide12.xm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380880" y="304920"/>
            <a:ext cx="8382240" cy="6095880"/>
          </a:xfrm>
          <a:prstGeom prst="rect">
            <a:avLst/>
          </a:prstGeom>
          <a:noFill/>
          <a:ln w="15552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9"/>
          <p:cNvSpPr/>
          <p:nvPr/>
        </p:nvSpPr>
        <p:spPr>
          <a:xfrm>
            <a:off x="762120" y="46782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w us what you know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1" descr="j0083185[1]"/>
          <p:cNvPicPr/>
          <p:nvPr/>
        </p:nvPicPr>
        <p:blipFill>
          <a:blip r:embed="rId1"/>
          <a:stretch/>
        </p:blipFill>
        <p:spPr>
          <a:xfrm>
            <a:off x="6172200" y="4114800"/>
            <a:ext cx="1819440" cy="1801800"/>
          </a:xfrm>
          <a:prstGeom prst="rect">
            <a:avLst/>
          </a:prstGeom>
          <a:ln w="0">
            <a:noFill/>
          </a:ln>
        </p:spPr>
      </p:pic>
      <p:sp>
        <p:nvSpPr>
          <p:cNvPr id="44" name="WordArt 12"/>
          <p:cNvSpPr txBox="1"/>
          <p:nvPr/>
        </p:nvSpPr>
        <p:spPr>
          <a:xfrm>
            <a:off x="1981080" y="685800"/>
            <a:ext cx="53341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Comic Sans MS"/>
              </a:rPr>
              <a:t>Planet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990720" y="2057400"/>
            <a:ext cx="6629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Comic Sans MS"/>
              </a:rPr>
              <a:t>Jeopardy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Venus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391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he Roman goddess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of love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120" name="Group 4"/>
          <p:cNvGrpSpPr/>
          <p:nvPr/>
        </p:nvGrpSpPr>
        <p:grpSpPr>
          <a:xfrm>
            <a:off x="5929200" y="3581280"/>
            <a:ext cx="2148120" cy="3051360"/>
            <a:chOff x="5929200" y="3581280"/>
            <a:chExt cx="2148120" cy="3051360"/>
          </a:xfrm>
        </p:grpSpPr>
        <p:sp>
          <p:nvSpPr>
            <p:cNvPr id="121" name="AutoShape 5"/>
            <p:cNvSpPr/>
            <p:nvPr/>
          </p:nvSpPr>
          <p:spPr>
            <a:xfrm>
              <a:off x="6858000" y="3581280"/>
              <a:ext cx="121932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Picture 6" descr=""/>
            <p:cNvPicPr/>
            <p:nvPr/>
          </p:nvPicPr>
          <p:blipFill>
            <a:blip r:embed="rId1"/>
            <a:stretch/>
          </p:blipFill>
          <p:spPr>
            <a:xfrm>
              <a:off x="5929200" y="5638680"/>
              <a:ext cx="1462320" cy="99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Picture 13" descr="GAMEEE"/>
          <p:cNvPicPr/>
          <p:nvPr/>
        </p:nvPicPr>
        <p:blipFill>
          <a:blip r:embed="rId2"/>
          <a:stretch/>
        </p:blipFill>
        <p:spPr>
          <a:xfrm>
            <a:off x="3581280" y="4718160"/>
            <a:ext cx="22100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Mars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he Roman god of war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5929200" y="3581280"/>
            <a:ext cx="2148120" cy="3051360"/>
            <a:chOff x="5929200" y="3581280"/>
            <a:chExt cx="2148120" cy="3051360"/>
          </a:xfrm>
        </p:grpSpPr>
        <p:sp>
          <p:nvSpPr>
            <p:cNvPr id="127" name="AutoShape 5"/>
            <p:cNvSpPr/>
            <p:nvPr/>
          </p:nvSpPr>
          <p:spPr>
            <a:xfrm>
              <a:off x="6858000" y="3581280"/>
              <a:ext cx="121932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" name="Picture 6" descr=""/>
            <p:cNvPicPr/>
            <p:nvPr/>
          </p:nvPicPr>
          <p:blipFill>
            <a:blip r:embed="rId1"/>
            <a:stretch/>
          </p:blipFill>
          <p:spPr>
            <a:xfrm>
              <a:off x="5929200" y="5638680"/>
              <a:ext cx="1462320" cy="99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14" descr="GAMEEE"/>
          <p:cNvPicPr/>
          <p:nvPr/>
        </p:nvPicPr>
        <p:blipFill>
          <a:blip r:embed="rId2"/>
          <a:stretch/>
        </p:blipFill>
        <p:spPr>
          <a:xfrm>
            <a:off x="3581280" y="4718160"/>
            <a:ext cx="22100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1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Jupiter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11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he largest planet. It could swallow up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1,000 Earths. The diameter is 88,235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miles.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32" name="Picture 12" descr="GAMEEE"/>
          <p:cNvPicPr/>
          <p:nvPr/>
        </p:nvPicPr>
        <p:blipFill>
          <a:blip r:embed="rId1"/>
          <a:stretch/>
        </p:blipFill>
        <p:spPr>
          <a:xfrm>
            <a:off x="3581280" y="4952880"/>
            <a:ext cx="22100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3" name="Group 13"/>
          <p:cNvGrpSpPr/>
          <p:nvPr/>
        </p:nvGrpSpPr>
        <p:grpSpPr>
          <a:xfrm>
            <a:off x="6324480" y="3429000"/>
            <a:ext cx="2148120" cy="3050640"/>
            <a:chOff x="6324480" y="3429000"/>
            <a:chExt cx="2148120" cy="3050640"/>
          </a:xfrm>
        </p:grpSpPr>
        <p:sp>
          <p:nvSpPr>
            <p:cNvPr id="134" name="AutoShape 14"/>
            <p:cNvSpPr/>
            <p:nvPr/>
          </p:nvSpPr>
          <p:spPr>
            <a:xfrm>
              <a:off x="7253280" y="3429000"/>
              <a:ext cx="1219320" cy="182844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5" name="Picture 15" descr=""/>
            <p:cNvPicPr/>
            <p:nvPr/>
          </p:nvPicPr>
          <p:blipFill>
            <a:blip r:embed="rId2"/>
            <a:stretch/>
          </p:blipFill>
          <p:spPr>
            <a:xfrm>
              <a:off x="6324480" y="5486040"/>
              <a:ext cx="1462320" cy="993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2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Pluto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70866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he smallest planet, with a diameter of about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1,430 miles.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38" name="Picture 15" descr="GAMEEE"/>
          <p:cNvPicPr/>
          <p:nvPr/>
        </p:nvPicPr>
        <p:blipFill>
          <a:blip r:embed="rId1"/>
          <a:stretch/>
        </p:blipFill>
        <p:spPr>
          <a:xfrm>
            <a:off x="3581280" y="4718160"/>
            <a:ext cx="22100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9" name="Group 16"/>
          <p:cNvGrpSpPr/>
          <p:nvPr/>
        </p:nvGrpSpPr>
        <p:grpSpPr>
          <a:xfrm>
            <a:off x="6157800" y="3581280"/>
            <a:ext cx="2148120" cy="3051360"/>
            <a:chOff x="6157800" y="3581280"/>
            <a:chExt cx="2148120" cy="3051360"/>
          </a:xfrm>
        </p:grpSpPr>
        <p:sp>
          <p:nvSpPr>
            <p:cNvPr id="140" name="AutoShape 17"/>
            <p:cNvSpPr/>
            <p:nvPr/>
          </p:nvSpPr>
          <p:spPr>
            <a:xfrm>
              <a:off x="7086600" y="3581280"/>
              <a:ext cx="121932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1" name="Picture 18" descr=""/>
            <p:cNvPicPr/>
            <p:nvPr/>
          </p:nvPicPr>
          <p:blipFill>
            <a:blip r:embed="rId2"/>
            <a:stretch/>
          </p:blipFill>
          <p:spPr>
            <a:xfrm>
              <a:off x="6157800" y="5638680"/>
              <a:ext cx="1462320" cy="993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3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Saturn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he second largest planet, with a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diameter of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74,565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miles.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44" name="Picture 12" descr="GAMEEE"/>
          <p:cNvPicPr/>
          <p:nvPr/>
        </p:nvPicPr>
        <p:blipFill>
          <a:blip r:embed="rId1"/>
          <a:stretch/>
        </p:blipFill>
        <p:spPr>
          <a:xfrm>
            <a:off x="3581280" y="4832280"/>
            <a:ext cx="22100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45" name="Group 13"/>
          <p:cNvGrpSpPr/>
          <p:nvPr/>
        </p:nvGrpSpPr>
        <p:grpSpPr>
          <a:xfrm>
            <a:off x="6234120" y="3581280"/>
            <a:ext cx="2147400" cy="3051360"/>
            <a:chOff x="6234120" y="3581280"/>
            <a:chExt cx="2147400" cy="3051360"/>
          </a:xfrm>
        </p:grpSpPr>
        <p:sp>
          <p:nvSpPr>
            <p:cNvPr id="146" name="AutoShape 14"/>
            <p:cNvSpPr/>
            <p:nvPr/>
          </p:nvSpPr>
          <p:spPr>
            <a:xfrm>
              <a:off x="7162560" y="3581280"/>
              <a:ext cx="121896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Picture 15" descr=""/>
            <p:cNvPicPr/>
            <p:nvPr/>
          </p:nvPicPr>
          <p:blipFill>
            <a:blip r:embed="rId2"/>
            <a:stretch/>
          </p:blipFill>
          <p:spPr>
            <a:xfrm>
              <a:off x="6234120" y="5638680"/>
              <a:ext cx="1461960" cy="993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55"/>
          <p:cNvSpPr/>
          <p:nvPr/>
        </p:nvSpPr>
        <p:spPr>
          <a:xfrm>
            <a:off x="4876920" y="510552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42"/>
          <p:cNvSpPr/>
          <p:nvPr/>
        </p:nvSpPr>
        <p:spPr>
          <a:xfrm>
            <a:off x="4876920" y="396252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44">
            <a:hlinkClick r:id="rId1"/>
          </p:cNvPr>
          <p:cNvSpPr/>
          <p:nvPr/>
        </p:nvSpPr>
        <p:spPr>
          <a:xfrm>
            <a:off x="4876920" y="274320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39">
            <a:hlinkClick r:id="rId2" action="ppaction://hlinksldjump"/>
          </p:cNvPr>
          <p:cNvSpPr/>
          <p:nvPr/>
        </p:nvSpPr>
        <p:spPr>
          <a:xfrm>
            <a:off x="3048120" y="396252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40">
            <a:hlinkClick r:id="rId3" action="ppaction://hlinksldjump"/>
          </p:cNvPr>
          <p:cNvSpPr/>
          <p:nvPr/>
        </p:nvSpPr>
        <p:spPr>
          <a:xfrm>
            <a:off x="3048120" y="510552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1">
            <a:hlinkClick r:id="rId4" action="ppaction://hlinksldjump"/>
          </p:cNvPr>
          <p:cNvSpPr/>
          <p:nvPr/>
        </p:nvSpPr>
        <p:spPr>
          <a:xfrm>
            <a:off x="3048120" y="274320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35">
            <a:hlinkClick r:id="rId5" action="ppaction://hlinksldjump"/>
          </p:cNvPr>
          <p:cNvSpPr/>
          <p:nvPr/>
        </p:nvSpPr>
        <p:spPr>
          <a:xfrm>
            <a:off x="1219320" y="396252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37">
            <a:hlinkClick r:id="rId6" action="ppaction://hlinksldjump"/>
          </p:cNvPr>
          <p:cNvSpPr/>
          <p:nvPr/>
        </p:nvSpPr>
        <p:spPr>
          <a:xfrm>
            <a:off x="1219320" y="510552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38">
            <a:hlinkClick r:id="rId7" action="ppaction://hlinksldjump"/>
          </p:cNvPr>
          <p:cNvSpPr/>
          <p:nvPr/>
        </p:nvSpPr>
        <p:spPr>
          <a:xfrm>
            <a:off x="1219320" y="274320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990720" y="17524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ame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743200" y="1676520"/>
            <a:ext cx="19810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istance </a:t>
            </a:r>
            <a:br>
              <a:rPr sz="2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from the S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800600" y="17524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ick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858000" y="1752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1143000" y="1676520"/>
            <a:ext cx="1523880" cy="76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a1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447920" y="2776680"/>
            <a:ext cx="1143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hlinkClick r:id="rId8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447920" y="3995640"/>
            <a:ext cx="1143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hlinkClick r:id="rId9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1447920" y="5181480"/>
            <a:ext cx="1143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hlinkClick r:id="rId10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3276720" y="2776680"/>
            <a:ext cx="1143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hlinkClick r:id="rId11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3276720" y="3995640"/>
            <a:ext cx="1143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8"/>
          <p:cNvSpPr/>
          <p:nvPr/>
        </p:nvSpPr>
        <p:spPr>
          <a:xfrm>
            <a:off x="3276720" y="5181480"/>
            <a:ext cx="1143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hlinkClick r:id="rId13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5105520" y="2776680"/>
            <a:ext cx="1143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hlinkClick r:id="rId14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2"/>
          <p:cNvSpPr/>
          <p:nvPr/>
        </p:nvSpPr>
        <p:spPr>
          <a:xfrm>
            <a:off x="5105520" y="3995640"/>
            <a:ext cx="1143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hlinkClick r:id="rId15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5105520" y="5181480"/>
            <a:ext cx="1143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hlinkClick r:id="rId16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5"/>
          <p:cNvSpPr/>
          <p:nvPr/>
        </p:nvSpPr>
        <p:spPr>
          <a:xfrm>
            <a:off x="2971800" y="1676520"/>
            <a:ext cx="1523880" cy="76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a1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46"/>
          <p:cNvSpPr/>
          <p:nvPr/>
        </p:nvSpPr>
        <p:spPr>
          <a:xfrm>
            <a:off x="4800600" y="1676520"/>
            <a:ext cx="1523880" cy="76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a1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7"/>
          <p:cNvSpPr/>
          <p:nvPr/>
        </p:nvSpPr>
        <p:spPr>
          <a:xfrm>
            <a:off x="6629400" y="1676520"/>
            <a:ext cx="1523880" cy="7617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a1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WordArt 48"/>
          <p:cNvSpPr txBox="1"/>
          <p:nvPr/>
        </p:nvSpPr>
        <p:spPr>
          <a:xfrm>
            <a:off x="1219320" y="53352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Comic Sans MS"/>
              </a:rPr>
              <a:t>Planet Jeopardy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73" name="AutoShape 73"/>
          <p:cNvSpPr/>
          <p:nvPr/>
        </p:nvSpPr>
        <p:spPr>
          <a:xfrm>
            <a:off x="6705720" y="510552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74"/>
          <p:cNvSpPr/>
          <p:nvPr/>
        </p:nvSpPr>
        <p:spPr>
          <a:xfrm>
            <a:off x="6705720" y="396252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75"/>
          <p:cNvSpPr/>
          <p:nvPr/>
        </p:nvSpPr>
        <p:spPr>
          <a:xfrm>
            <a:off x="6705720" y="2743200"/>
            <a:ext cx="144756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  <a:hlinkClick r:id="rId17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85800" y="2819520"/>
            <a:ext cx="72388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he red pla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Group 30"/>
          <p:cNvGrpSpPr/>
          <p:nvPr/>
        </p:nvGrpSpPr>
        <p:grpSpPr>
          <a:xfrm>
            <a:off x="5929200" y="3581280"/>
            <a:ext cx="2148120" cy="3051360"/>
            <a:chOff x="5929200" y="3581280"/>
            <a:chExt cx="2148120" cy="3051360"/>
          </a:xfrm>
        </p:grpSpPr>
        <p:sp>
          <p:nvSpPr>
            <p:cNvPr id="78" name="AutoShape 4"/>
            <p:cNvSpPr/>
            <p:nvPr/>
          </p:nvSpPr>
          <p:spPr>
            <a:xfrm>
              <a:off x="6858000" y="3581280"/>
              <a:ext cx="121932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Picture 29" descr=""/>
            <p:cNvPicPr/>
            <p:nvPr/>
          </p:nvPicPr>
          <p:blipFill>
            <a:blip r:embed="rId1"/>
            <a:stretch/>
          </p:blipFill>
          <p:spPr>
            <a:xfrm>
              <a:off x="5929200" y="5638680"/>
              <a:ext cx="1462320" cy="99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0" name="Picture 40" descr="GAMEE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581280" y="4718160"/>
            <a:ext cx="22100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1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Mars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Saturn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76201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he ringed planet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84" name="Group 8"/>
          <p:cNvGrpSpPr/>
          <p:nvPr/>
        </p:nvGrpSpPr>
        <p:grpSpPr>
          <a:xfrm>
            <a:off x="5929200" y="3581280"/>
            <a:ext cx="2148120" cy="3051360"/>
            <a:chOff x="5929200" y="3581280"/>
            <a:chExt cx="2148120" cy="3051360"/>
          </a:xfrm>
        </p:grpSpPr>
        <p:sp>
          <p:nvSpPr>
            <p:cNvPr id="85" name="AutoShape 9"/>
            <p:cNvSpPr/>
            <p:nvPr/>
          </p:nvSpPr>
          <p:spPr>
            <a:xfrm>
              <a:off x="6858000" y="3581280"/>
              <a:ext cx="121932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Picture 10" descr=""/>
            <p:cNvPicPr/>
            <p:nvPr/>
          </p:nvPicPr>
          <p:blipFill>
            <a:blip r:embed="rId1"/>
            <a:stretch/>
          </p:blipFill>
          <p:spPr>
            <a:xfrm>
              <a:off x="5929200" y="5638680"/>
              <a:ext cx="1462320" cy="99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18" descr="GAMEE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276720" y="4191120"/>
            <a:ext cx="2209680" cy="179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Pluto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391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his cold planet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5929200" y="3581280"/>
            <a:ext cx="2148120" cy="3051360"/>
            <a:chOff x="5929200" y="3581280"/>
            <a:chExt cx="2148120" cy="3051360"/>
          </a:xfrm>
        </p:grpSpPr>
        <p:sp>
          <p:nvSpPr>
            <p:cNvPr id="91" name="AutoShape 5"/>
            <p:cNvSpPr/>
            <p:nvPr/>
          </p:nvSpPr>
          <p:spPr>
            <a:xfrm>
              <a:off x="6858000" y="3581280"/>
              <a:ext cx="121932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Picture 6" descr=""/>
            <p:cNvPicPr/>
            <p:nvPr/>
          </p:nvPicPr>
          <p:blipFill>
            <a:blip r:embed="rId1"/>
            <a:stretch/>
          </p:blipFill>
          <p:spPr>
            <a:xfrm>
              <a:off x="5929200" y="5638680"/>
              <a:ext cx="1462320" cy="99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Picture 20" descr="GAMEEE"/>
          <p:cNvPicPr/>
          <p:nvPr/>
        </p:nvPicPr>
        <p:blipFill>
          <a:blip r:embed="rId2"/>
          <a:stretch/>
        </p:blipFill>
        <p:spPr>
          <a:xfrm>
            <a:off x="3581280" y="4718160"/>
            <a:ext cx="22100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1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Mars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391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he fourth planet from the sun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96" name="Group 4"/>
          <p:cNvGrpSpPr/>
          <p:nvPr/>
        </p:nvGrpSpPr>
        <p:grpSpPr>
          <a:xfrm>
            <a:off x="5929200" y="3581280"/>
            <a:ext cx="2148120" cy="3051360"/>
            <a:chOff x="5929200" y="3581280"/>
            <a:chExt cx="2148120" cy="3051360"/>
          </a:xfrm>
        </p:grpSpPr>
        <p:sp>
          <p:nvSpPr>
            <p:cNvPr id="97" name="AutoShape 5"/>
            <p:cNvSpPr/>
            <p:nvPr/>
          </p:nvSpPr>
          <p:spPr>
            <a:xfrm>
              <a:off x="6858000" y="3581280"/>
              <a:ext cx="121932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Picture 6" descr=""/>
            <p:cNvPicPr/>
            <p:nvPr/>
          </p:nvPicPr>
          <p:blipFill>
            <a:blip r:embed="rId1"/>
            <a:stretch/>
          </p:blipFill>
          <p:spPr>
            <a:xfrm>
              <a:off x="5929200" y="5638680"/>
              <a:ext cx="1462320" cy="99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Picture 22" descr="GAMEEE"/>
          <p:cNvPicPr/>
          <p:nvPr/>
        </p:nvPicPr>
        <p:blipFill>
          <a:blip r:embed="rId2"/>
          <a:stretch/>
        </p:blipFill>
        <p:spPr>
          <a:xfrm>
            <a:off x="3581280" y="4718160"/>
            <a:ext cx="22100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2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Mercury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391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he closest to the sun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5929200" y="3581280"/>
            <a:ext cx="2148120" cy="3051360"/>
            <a:chOff x="5929200" y="3581280"/>
            <a:chExt cx="2148120" cy="3051360"/>
          </a:xfrm>
        </p:grpSpPr>
        <p:sp>
          <p:nvSpPr>
            <p:cNvPr id="103" name="AutoShape 5"/>
            <p:cNvSpPr/>
            <p:nvPr/>
          </p:nvSpPr>
          <p:spPr>
            <a:xfrm>
              <a:off x="6858000" y="3581280"/>
              <a:ext cx="121932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Picture 6" descr=""/>
            <p:cNvPicPr/>
            <p:nvPr/>
          </p:nvPicPr>
          <p:blipFill>
            <a:blip r:embed="rId1"/>
            <a:stretch/>
          </p:blipFill>
          <p:spPr>
            <a:xfrm>
              <a:off x="5929200" y="5638680"/>
              <a:ext cx="1462320" cy="99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" name="Picture 15" descr="GAMEEE"/>
          <p:cNvPicPr/>
          <p:nvPr/>
        </p:nvPicPr>
        <p:blipFill>
          <a:blip r:embed="rId2"/>
          <a:stretch/>
        </p:blipFill>
        <p:spPr>
          <a:xfrm>
            <a:off x="3581280" y="4718160"/>
            <a:ext cx="22100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3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Earth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he third planet from the sun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5929200" y="3581280"/>
            <a:ext cx="2148120" cy="3051360"/>
            <a:chOff x="5929200" y="3581280"/>
            <a:chExt cx="2148120" cy="3051360"/>
          </a:xfrm>
        </p:grpSpPr>
        <p:sp>
          <p:nvSpPr>
            <p:cNvPr id="109" name="AutoShape 5"/>
            <p:cNvSpPr/>
            <p:nvPr/>
          </p:nvSpPr>
          <p:spPr>
            <a:xfrm>
              <a:off x="6858000" y="3581280"/>
              <a:ext cx="121932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Picture 6" descr=""/>
            <p:cNvPicPr/>
            <p:nvPr/>
          </p:nvPicPr>
          <p:blipFill>
            <a:blip r:embed="rId1"/>
            <a:stretch/>
          </p:blipFill>
          <p:spPr>
            <a:xfrm>
              <a:off x="5929200" y="5638680"/>
              <a:ext cx="1462320" cy="99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1" name="Picture 14" descr="GAMEEE"/>
          <p:cNvPicPr/>
          <p:nvPr/>
        </p:nvPicPr>
        <p:blipFill>
          <a:blip r:embed="rId2"/>
          <a:stretch/>
        </p:blipFill>
        <p:spPr>
          <a:xfrm>
            <a:off x="3581280" y="4718160"/>
            <a:ext cx="22100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i="1" lang="en-US" sz="6000" spc="-1" strike="noStrike">
                <a:solidFill>
                  <a:srgbClr val="ff0000"/>
                </a:solidFill>
                <a:latin typeface="Comic Sans MS"/>
              </a:rPr>
              <a:t> What is Mercury?</a:t>
            </a:r>
            <a:endParaRPr b="0" i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74674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he Roman god of merchants and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raveler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5929200" y="3581280"/>
            <a:ext cx="2148120" cy="3051360"/>
            <a:chOff x="5929200" y="3581280"/>
            <a:chExt cx="2148120" cy="3051360"/>
          </a:xfrm>
        </p:grpSpPr>
        <p:sp>
          <p:nvSpPr>
            <p:cNvPr id="115" name="AutoShape 5"/>
            <p:cNvSpPr/>
            <p:nvPr/>
          </p:nvSpPr>
          <p:spPr>
            <a:xfrm>
              <a:off x="6858000" y="3581280"/>
              <a:ext cx="1219320" cy="182880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 k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nswe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" name="Picture 6" descr=""/>
            <p:cNvPicPr/>
            <p:nvPr/>
          </p:nvPicPr>
          <p:blipFill>
            <a:blip r:embed="rId1"/>
            <a:stretch/>
          </p:blipFill>
          <p:spPr>
            <a:xfrm>
              <a:off x="5929200" y="5638680"/>
              <a:ext cx="1462320" cy="99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13" descr="GAMEEE"/>
          <p:cNvPicPr/>
          <p:nvPr/>
        </p:nvPicPr>
        <p:blipFill>
          <a:blip r:embed="rId2"/>
          <a:stretch/>
        </p:blipFill>
        <p:spPr>
          <a:xfrm>
            <a:off x="3581280" y="4718160"/>
            <a:ext cx="2210040" cy="179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3T23:52:45Z</dcterms:created>
  <dc:creator>Janet Caughlin</dc:creator>
  <dc:description/>
  <dc:language>en-US</dc:language>
  <cp:lastModifiedBy>gbarna</cp:lastModifiedBy>
  <cp:lastPrinted>2002-05-23T22:06:50Z</cp:lastPrinted>
  <dcterms:modified xsi:type="dcterms:W3CDTF">2009-11-01T14:48:35Z</dcterms:modified>
  <cp:revision>33</cp:revision>
  <dc:subject/>
  <dc:title>PowerPoint Presentation</dc:title>
</cp:coreProperties>
</file>